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D3F-C722-4CE2-8D77-133A898F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6D5-DD1A-44E8-BE3E-5D7E11C9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0CF-6071-471A-B1FD-E6936542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E3D-FCB1-4FAE-BAD4-BE024467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4E1B-9D26-4B8E-BAE7-E8BD9F8B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293D-B9B2-4849-BFCC-515FF558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6C4F-5046-4AC0-907C-50FB6555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706-33A0-4658-9A7C-F850025A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F87B-F0A5-401B-B906-DA9A2E96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98AF-43A8-4AB2-9A1D-79322B7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DA08-07AA-44EA-8237-31569E5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F06-66BC-47DC-A832-8FBD2730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F115-C442-45C2-A191-14E712D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02FD-8964-4067-88C3-545BA88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A5F1-F771-445A-8FA1-A3F9B4FC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709B-3CCE-4FCD-BD3B-59A9CBDA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9328-76F7-4191-8759-A50D514C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D44-F606-4457-8A92-AB7F1E42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8D8-C729-44FD-BFCA-ACB34F7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990-EAB2-4D2D-9956-F5B1F551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BBB-3364-4BA3-8752-132EC108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5B6-E5D3-4B13-89A3-0298AA3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6AA-2120-45DC-87C8-73A3067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411-005B-4FF8-995A-882E2FE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Juice ITC"/>
              </a:rPr>
              <a:t>Click to edit the title text format</a:t>
            </a:r>
            <a:endParaRPr b="0" lang="en-US" sz="60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0066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Click to edit the outline text format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1" marL="653760" indent="-251280">
              <a:spcBef>
                <a:spcPts val="1001"/>
              </a:spcBef>
              <a:buClr>
                <a:srgbClr val="ff0066"/>
              </a:buClr>
              <a:buFont typeface="Juice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Second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2" marL="1005840" indent="-200880">
              <a:spcBef>
                <a:spcPts val="1001"/>
              </a:spcBef>
              <a:buClr>
                <a:srgbClr val="ff0066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Third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3" marL="1407960" indent="-200880">
              <a:spcBef>
                <a:spcPts val="1001"/>
              </a:spcBef>
              <a:buClr>
                <a:srgbClr val="ff0066"/>
              </a:buClr>
              <a:buFont typeface="Juice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Four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4" marL="1810440" indent="-200880">
              <a:spcBef>
                <a:spcPts val="1001"/>
              </a:spcBef>
              <a:buClr>
                <a:srgbClr val="ff0066"/>
              </a:buClr>
              <a:buFont typeface="Juice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Fif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Juice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Six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Juice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Seventh Outline Level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83F9-9050-458A-9AEC-E06DD2539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6C9-8CD7-4293-8EB7-3A6BEECA6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Ravie"/>
              </a:rPr>
              <a:t>What Do You See</a:t>
            </a:r>
            <a:endParaRPr b="0" lang="en-US" sz="96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Ravie"/>
              </a:rPr>
              <a:t>By Taryn Gillespie</a:t>
            </a:r>
            <a:endParaRPr b="0" lang="en-US" sz="4800" spc="-1" strike="noStrike">
              <a:solidFill>
                <a:srgbClr val="ff0066"/>
              </a:solidFill>
              <a:latin typeface="Juice IT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Juice ITC"/>
              </a:rPr>
              <a:t>Thanks for watching and being in my experiment!!!!!</a:t>
            </a:r>
            <a:endParaRPr b="0" lang="en-US" sz="5400" spc="-1" strike="noStrike">
              <a:solidFill>
                <a:srgbClr val="0000ff"/>
              </a:solidFill>
              <a:latin typeface="Juice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</a:t>
            </a:r>
            <a:endParaRPr b="0" lang="en-US" sz="4000" spc="-1" strike="noStrike">
              <a:solidFill>
                <a:srgbClr val="ff0066"/>
              </a:solidFill>
              <a:latin typeface="Juice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blue_rotational_500x437"/>
          <p:cNvPicPr/>
          <p:nvPr/>
        </p:nvPicPr>
        <p:blipFill>
          <a:blip r:embed="rId1"/>
          <a:stretch/>
        </p:blipFill>
        <p:spPr>
          <a:xfrm>
            <a:off x="685800" y="298440"/>
            <a:ext cx="6705720" cy="610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7467480" y="0"/>
            <a:ext cx="1676520" cy="83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center 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+ and move your head in and out does the circle mo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876920" y="838080"/>
            <a:ext cx="3657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crazy_optical_illusions_old"/>
          <p:cNvPicPr/>
          <p:nvPr/>
        </p:nvPicPr>
        <p:blipFill>
          <a:blip r:embed="rId1"/>
          <a:stretch/>
        </p:blipFill>
        <p:spPr>
          <a:xfrm>
            <a:off x="533520" y="152280"/>
            <a:ext cx="7848360" cy="5877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609480" y="62485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Optical Illusion"/>
          <p:cNvPicPr/>
          <p:nvPr/>
        </p:nvPicPr>
        <p:blipFill>
          <a:blip r:embed="rId1"/>
          <a:stretch/>
        </p:blipFill>
        <p:spPr>
          <a:xfrm>
            <a:off x="152280" y="228600"/>
            <a:ext cx="7010640" cy="5205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0880" y="5715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Optical Illusion"/>
          <p:cNvPicPr/>
          <p:nvPr/>
        </p:nvPicPr>
        <p:blipFill>
          <a:blip r:embed="rId1"/>
          <a:stretch/>
        </p:blipFill>
        <p:spPr>
          <a:xfrm>
            <a:off x="914400" y="152280"/>
            <a:ext cx="7381800" cy="4322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066680" y="5181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se lines stra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Optical Illusion"/>
          <p:cNvPicPr/>
          <p:nvPr/>
        </p:nvPicPr>
        <p:blipFill>
          <a:blip r:embed="rId1"/>
          <a:stretch/>
        </p:blipFill>
        <p:spPr>
          <a:xfrm>
            <a:off x="152280" y="152280"/>
            <a:ext cx="7086600" cy="498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066680" y="55627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egs do you see on this eleph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Optical Illusion"/>
          <p:cNvPicPr/>
          <p:nvPr/>
        </p:nvPicPr>
        <p:blipFill>
          <a:blip r:embed="rId1"/>
          <a:stretch/>
        </p:blipFill>
        <p:spPr>
          <a:xfrm>
            <a:off x="380880" y="2286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5715000" y="2286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lue side on the front or the back of the cube on your first loo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Optical Illusion"/>
          <p:cNvPicPr/>
          <p:nvPr/>
        </p:nvPicPr>
        <p:blipFill>
          <a:blip r:embed="rId1"/>
          <a:stretch/>
        </p:blipFill>
        <p:spPr>
          <a:xfrm>
            <a:off x="304920" y="228600"/>
            <a:ext cx="371448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181480" y="1219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black rectangle is the bigg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Optical Illusion"/>
          <p:cNvPicPr/>
          <p:nvPr/>
        </p:nvPicPr>
        <p:blipFill>
          <a:blip r:embed="rId1"/>
          <a:stretch/>
        </p:blipFill>
        <p:spPr>
          <a:xfrm>
            <a:off x="533520" y="228600"/>
            <a:ext cx="5333760" cy="4203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057400" y="525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tep is the low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46Z</dcterms:created>
  <dc:creator>USD376</dc:creator>
  <dc:description/>
  <dc:language>en-US</dc:language>
  <cp:lastModifiedBy>USD376</cp:lastModifiedBy>
  <dcterms:modified xsi:type="dcterms:W3CDTF">2011-01-26T16:55:28Z</dcterms:modified>
  <cp:revision>6</cp:revision>
  <dc:subject/>
  <dc:title>What Do You See</dc:title>
</cp:coreProperties>
</file>